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9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50400" y="738360"/>
            <a:ext cx="4907160" cy="368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0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1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0152-6232-40EA-95C4-94E241F63A4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AEB9-5152-4FBA-AA77-E55DB54FABB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BADB-EBD8-4DC3-A401-0A15787CD0E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C58D-209E-423E-A439-68DF2067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337-5DDC-4FFA-AEFE-DD4CF6F4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6E6-DAA6-42C6-B6E3-3F52AB83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ADC-7175-48F9-8F32-63517929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303C0-2318-4A64-9266-4EFE430739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18916-690B-4195-AB25-6DF978C4DF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FBBB3-0E14-4234-AA1B-7F8ED1D2F1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EB60B-4CF2-4386-B461-58CBE9AA40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A552D-29B5-42B8-8C9C-ED2134DC03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FBCF7-CE43-42BB-90AF-B139EEAFE2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A98A0-A44B-434D-9BD4-588C215308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F22-86A4-4634-839E-BEC2F81A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C78E0-BA54-4990-A8E7-3FC6181F25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6E453-32CD-42A1-959A-36EEDDED88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A7DA4-26F1-43F8-97FF-F98D1F14B8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166F9-E74D-466A-A4BE-2E279F4269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67D03-99D6-4C68-8292-1E2171B09B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FFA6F-E71E-431E-B1DE-5A1A66AA87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404B2-7B27-4F76-ABA1-A6E29A2A76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3BCBD-0855-4B72-A835-89DD2A3BC9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E6FE4-5452-4F4D-8519-E400C70B14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EEB48-6D8C-4834-9DF9-9732D8914F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CDE-3EF5-4903-AD7C-219703C0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868F3-8199-47B7-8E99-9A3CC4E913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2939E-956B-408E-9356-0B009AAD8B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3ABBB-C903-4918-8E50-E42973E2F4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FACC2-3279-4A62-BAF6-B3FDE8652B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089BD-42E6-4C95-8673-56FE3A4BAF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19A36-5069-4B8C-80A5-5E118EB028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15FC0-7C71-44FC-8238-A35A107068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C3E61B-4F1F-47C1-B957-B50B98BEA1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A523FF-621F-4DE9-8AEF-1F50BC832C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1D63B8-4A03-4D08-A8BB-8A59F080C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5DD-0C6F-4BD3-94E0-9C75098A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D91B2B-68A6-42C3-8500-F75DFA75D5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6C8BFD-C2BE-48ED-B347-0437F927E6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6A1856-FACB-45CC-B076-BB61A0FDAA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41E8DF-9111-4F87-8452-5A0F91A07D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937094-F95F-40E5-99D0-5F590C46AF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4849E0-B6C0-4AFC-B518-003F24BED08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6013F4-7B11-4F08-991A-F2F68F24F6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12E504-2D0C-4E88-8F59-29193352C6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560796-37EB-4EE5-92A2-7505CE829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877-D576-4F21-8D8B-2B7A799C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A78-AC76-4652-902B-1CFDBA99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CFEE-47BA-4201-927F-E07144D1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01BD-5D42-40E4-BFE8-D08DA17A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B89-8553-4F12-BD93-B50579C8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F22C-B23E-4A29-9748-D98F18BF5C1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8429-482D-452A-81B9-EFF23A2ABB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7569-BFD3-43D4-8AAB-709E99C5AA30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C68A-06BA-479B-A62F-EB27CD3A80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6D64-9F51-46B2-8809-A68E761CE68C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A8D5-2F8F-48EE-B59A-2D746BC165B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“back-route(s)”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gregate regist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ocal apps share user- or node-owned prefix(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”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“propagat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4DC1-04FC-4A67-80B0-900416E23A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华文隶书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5BB7-E67B-43C5-ABFE-A2E9697DBEAB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7"/>
          <p:cNvSpPr/>
          <p:nvPr/>
        </p:nvSpPr>
        <p:spPr>
          <a:xfrm>
            <a:off x="3747600" y="1066680"/>
            <a:ext cx="2937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3"/>
          <p:cNvSpPr/>
          <p:nvPr/>
        </p:nvSpPr>
        <p:spPr>
          <a:xfrm>
            <a:off x="6781680" y="129060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肘形连接符 82"/>
          <p:cNvCxnSpPr/>
          <p:nvPr/>
        </p:nvCxnSpPr>
        <p:spPr>
          <a:xfrm flipH="1" rot="10800000">
            <a:off x="5410080" y="1599480"/>
            <a:ext cx="1395720" cy="1220040"/>
          </a:xfrm>
          <a:prstGeom prst="bentConnector3">
            <a:avLst>
              <a:gd name="adj1" fmla="val -59210"/>
            </a:avLst>
          </a:prstGeom>
          <a:ln w="28440">
            <a:solidFill>
              <a:srgbClr val="008000"/>
            </a:solidFill>
            <a:prstDash val="sysDot"/>
            <a:round/>
            <a:tailEnd len="med" type="arrow" w="med"/>
          </a:ln>
        </p:spPr>
      </p:cxnSp>
      <p:sp>
        <p:nvSpPr>
          <p:cNvPr id="178" name="矩形 63"/>
          <p:cNvSpPr/>
          <p:nvPr/>
        </p:nvSpPr>
        <p:spPr>
          <a:xfrm>
            <a:off x="3581280" y="258624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2"/>
          <p:cNvCxnSpPr/>
          <p:nvPr/>
        </p:nvCxnSpPr>
        <p:spPr>
          <a:xfrm flipV="1">
            <a:off x="4647960" y="4038120"/>
            <a:ext cx="1080" cy="14486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0" name="Hexagon 3"/>
          <p:cNvSpPr/>
          <p:nvPr/>
        </p:nvSpPr>
        <p:spPr>
          <a:xfrm>
            <a:off x="1143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Hexagon 46"/>
          <p:cNvSpPr/>
          <p:nvPr/>
        </p:nvSpPr>
        <p:spPr>
          <a:xfrm>
            <a:off x="419112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Hexagon 47"/>
          <p:cNvSpPr/>
          <p:nvPr/>
        </p:nvSpPr>
        <p:spPr>
          <a:xfrm>
            <a:off x="6858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8"/>
          <p:cNvCxnSpPr>
            <a:stCxn id="182" idx="0"/>
          </p:cNvCxnSpPr>
          <p:nvPr/>
        </p:nvCxnSpPr>
        <p:spPr>
          <a:xfrm flipH="1" flipV="1">
            <a:off x="5333760" y="4038120"/>
            <a:ext cx="16768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184" name="Straight Arrow Connector 50"/>
          <p:cNvCxnSpPr>
            <a:stCxn id="180" idx="0"/>
          </p:cNvCxnSpPr>
          <p:nvPr/>
        </p:nvCxnSpPr>
        <p:spPr>
          <a:xfrm flipV="1">
            <a:off x="1839600" y="4038120"/>
            <a:ext cx="18946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5" name="Rectangle 7"/>
          <p:cNvSpPr/>
          <p:nvPr/>
        </p:nvSpPr>
        <p:spPr>
          <a:xfrm>
            <a:off x="63504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5"/>
          <p:cNvSpPr/>
          <p:nvPr/>
        </p:nvSpPr>
        <p:spPr>
          <a:xfrm>
            <a:off x="3429000" y="4800600"/>
            <a:ext cx="220968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6"/>
          <p:cNvSpPr/>
          <p:nvPr/>
        </p:nvSpPr>
        <p:spPr>
          <a:xfrm>
            <a:off x="2743200" y="3668760"/>
            <a:ext cx="3238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6"/>
          <p:cNvSpPr/>
          <p:nvPr/>
        </p:nvSpPr>
        <p:spPr>
          <a:xfrm>
            <a:off x="586728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1"/>
          <p:cNvSpPr/>
          <p:nvPr/>
        </p:nvSpPr>
        <p:spPr>
          <a:xfrm>
            <a:off x="2819520" y="1868400"/>
            <a:ext cx="3581280" cy="6426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D314-E295-4A07-997A-571C5E5206D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Brace 4"/>
          <p:cNvSpPr/>
          <p:nvPr/>
        </p:nvSpPr>
        <p:spPr>
          <a:xfrm>
            <a:off x="5562720" y="4800600"/>
            <a:ext cx="533160" cy="990720"/>
          </a:xfrm>
          <a:custGeom>
            <a:avLst/>
            <a:gdLst>
              <a:gd name="textAreaLeft" fmla="*/ 0 w 533160"/>
              <a:gd name="textAreaRight" fmla="*/ 192600 w 533160"/>
              <a:gd name="textAreaTop" fmla="*/ 13680 h 990720"/>
              <a:gd name="textAreaBottom" fmla="*/ 977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5"/>
                  <a:pt x="10800" y="969"/>
                </a:cubicBezTo>
                <a:lnTo>
                  <a:pt x="10800" y="9831"/>
                </a:lnTo>
                <a:cubicBezTo>
                  <a:pt x="10800" y="10316"/>
                  <a:pt x="16200" y="10800"/>
                  <a:pt x="21600" y="10800"/>
                </a:cubicBezTo>
                <a:cubicBezTo>
                  <a:pt x="16200" y="10800"/>
                  <a:pt x="10800" y="11285"/>
                  <a:pt x="10800" y="11769"/>
                </a:cubicBezTo>
                <a:lnTo>
                  <a:pt x="10800" y="20631"/>
                </a:lnTo>
                <a:cubicBezTo>
                  <a:pt x="10800" y="2111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fix registration for prefix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keys, namespaces) &lt;- enumerate keys NRD ow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key defines “namespace” it u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 define the following convention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amespace:  /&lt;..1..&gt;/&lt;..2..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&lt;KEY&gt;, &lt;PREFIX&gt;) &lt;- longest prefix match on key namespaces for &lt;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f nothing found, 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&lt;PREIFX&gt; already regist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&lt;EXTRA CHECK (seen next slide)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localhop registration for &lt;PREFIX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gn with &lt;KEY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edule registration refresh for &lt;PREFIX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RIB entry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the registered prefix set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B515-4A51-4A4D-A6DB-79EE4176A2C0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check during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me namespace can be covered by multiple key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alex/home/macbook/app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app1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always use keys for the shortest namespac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register multiple back route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hould we unregister longer namespace when shorter is being register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083E-E310-4EE9-8E2F-9EE6CE7BB6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华文隶书"/>
              </a:rPr>
              <a:t>Local NRD (unregister longer when necessar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B26D-B463-424C-957C-D5D1929FE222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直线箭头连接符 8"/>
          <p:cNvCxnSpPr/>
          <p:nvPr/>
        </p:nvCxnSpPr>
        <p:spPr>
          <a:xfrm>
            <a:off x="4343040" y="1295280"/>
            <a:ext cx="1080" cy="6105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205" name="矩形 9"/>
          <p:cNvSpPr/>
          <p:nvPr/>
        </p:nvSpPr>
        <p:spPr>
          <a:xfrm>
            <a:off x="4386600" y="13716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 (reg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2819520" y="1905120"/>
            <a:ext cx="31240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prefix to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0"/>
          <p:cNvSpPr/>
          <p:nvPr/>
        </p:nvSpPr>
        <p:spPr>
          <a:xfrm>
            <a:off x="2819520" y="1981080"/>
            <a:ext cx="3047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菱形 11"/>
          <p:cNvSpPr/>
          <p:nvPr/>
        </p:nvSpPr>
        <p:spPr>
          <a:xfrm>
            <a:off x="2819520" y="2819520"/>
            <a:ext cx="3124080" cy="609480"/>
          </a:xfrm>
          <a:prstGeom prst="diamond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2"/>
          <p:cNvSpPr/>
          <p:nvPr/>
        </p:nvSpPr>
        <p:spPr>
          <a:xfrm>
            <a:off x="3389400" y="2906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3"/>
          <p:cNvSpPr/>
          <p:nvPr/>
        </p:nvSpPr>
        <p:spPr>
          <a:xfrm>
            <a:off x="4532760" y="2373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线箭头连接符 14"/>
          <p:cNvCxnSpPr>
            <a:stCxn id="206" idx="2"/>
            <a:endCxn id="208" idx="0"/>
          </p:cNvCxnSpPr>
          <p:nvPr/>
        </p:nvCxnSpPr>
        <p:spPr>
          <a:xfrm>
            <a:off x="4381200" y="2362320"/>
            <a:ext cx="1080" cy="45792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212" name="肘形连接符 17"/>
          <p:cNvCxnSpPr>
            <a:stCxn id="208" idx="1"/>
            <a:endCxn id="213" idx="1"/>
          </p:cNvCxnSpPr>
          <p:nvPr/>
        </p:nvCxnSpPr>
        <p:spPr>
          <a:xfrm flipV="1" rot="10800000">
            <a:off x="2818800" y="3123000"/>
            <a:ext cx="13320" cy="2591640"/>
          </a:xfrm>
          <a:prstGeom prst="bentConnector3">
            <a:avLst>
              <a:gd name="adj1" fmla="val 11700000"/>
            </a:avLst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grpSp>
        <p:nvGrpSpPr>
          <p:cNvPr id="214" name="组 25"/>
          <p:cNvGrpSpPr/>
          <p:nvPr/>
        </p:nvGrpSpPr>
        <p:grpSpPr>
          <a:xfrm>
            <a:off x="2819520" y="4495680"/>
            <a:ext cx="3124080" cy="457200"/>
            <a:chOff x="2819520" y="4495680"/>
            <a:chExt cx="3124080" cy="457200"/>
          </a:xfrm>
        </p:grpSpPr>
        <p:sp>
          <p:nvSpPr>
            <p:cNvPr id="215" name="矩形 26"/>
            <p:cNvSpPr/>
            <p:nvPr/>
          </p:nvSpPr>
          <p:spPr>
            <a:xfrm>
              <a:off x="2819520" y="449568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27"/>
            <p:cNvSpPr/>
            <p:nvPr/>
          </p:nvSpPr>
          <p:spPr>
            <a:xfrm>
              <a:off x="2819520" y="457164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 28"/>
          <p:cNvGrpSpPr/>
          <p:nvPr/>
        </p:nvGrpSpPr>
        <p:grpSpPr>
          <a:xfrm>
            <a:off x="5486400" y="3657600"/>
            <a:ext cx="3581280" cy="456840"/>
            <a:chOff x="5486400" y="3657600"/>
            <a:chExt cx="3581280" cy="456840"/>
          </a:xfrm>
        </p:grpSpPr>
        <p:sp>
          <p:nvSpPr>
            <p:cNvPr id="218" name="矩形 29"/>
            <p:cNvSpPr/>
            <p:nvPr/>
          </p:nvSpPr>
          <p:spPr>
            <a:xfrm>
              <a:off x="5486400" y="3657600"/>
              <a:ext cx="358128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30"/>
            <p:cNvSpPr/>
            <p:nvPr/>
          </p:nvSpPr>
          <p:spPr>
            <a:xfrm>
              <a:off x="5486400" y="3733560"/>
              <a:ext cx="34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ong_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31"/>
          <p:cNvSpPr/>
          <p:nvPr/>
        </p:nvSpPr>
        <p:spPr>
          <a:xfrm>
            <a:off x="16200" y="267804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horter one (or the same)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32"/>
          <p:cNvSpPr/>
          <p:nvPr/>
        </p:nvSpPr>
        <p:spPr>
          <a:xfrm>
            <a:off x="5517000" y="26668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nger o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ng_pref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肘形连接符 33"/>
          <p:cNvCxnSpPr>
            <a:stCxn id="208" idx="3"/>
            <a:endCxn id="218" idx="0"/>
          </p:cNvCxnSpPr>
          <p:nvPr/>
        </p:nvCxnSpPr>
        <p:spPr>
          <a:xfrm>
            <a:off x="5943600" y="3124080"/>
            <a:ext cx="1334160" cy="53424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3" name="肘形连接符 36"/>
          <p:cNvCxnSpPr>
            <a:stCxn id="218" idx="2"/>
            <a:endCxn id="215" idx="3"/>
          </p:cNvCxnSpPr>
          <p:nvPr/>
        </p:nvCxnSpPr>
        <p:spPr>
          <a:xfrm rot="5400000">
            <a:off x="6305040" y="3752640"/>
            <a:ext cx="610200" cy="133416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4" name="直线箭头连接符 42"/>
          <p:cNvCxnSpPr>
            <a:stCxn id="208" idx="2"/>
            <a:endCxn id="215" idx="0"/>
          </p:cNvCxnSpPr>
          <p:nvPr/>
        </p:nvCxnSpPr>
        <p:spPr>
          <a:xfrm>
            <a:off x="4381200" y="3428640"/>
            <a:ext cx="1080" cy="106740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grpSp>
        <p:nvGrpSpPr>
          <p:cNvPr id="225" name="组 45"/>
          <p:cNvGrpSpPr/>
          <p:nvPr/>
        </p:nvGrpSpPr>
        <p:grpSpPr>
          <a:xfrm>
            <a:off x="2819520" y="5486400"/>
            <a:ext cx="3124080" cy="457200"/>
            <a:chOff x="2819520" y="5486400"/>
            <a:chExt cx="3124080" cy="457200"/>
          </a:xfrm>
        </p:grpSpPr>
        <p:sp>
          <p:nvSpPr>
            <p:cNvPr id="213" name="矩形 46"/>
            <p:cNvSpPr/>
            <p:nvPr/>
          </p:nvSpPr>
          <p:spPr>
            <a:xfrm>
              <a:off x="2819520" y="548640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47"/>
            <p:cNvSpPr/>
            <p:nvPr/>
          </p:nvSpPr>
          <p:spPr>
            <a:xfrm>
              <a:off x="2819520" y="556236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" name="直线箭头连接符 50"/>
          <p:cNvCxnSpPr>
            <a:stCxn id="215" idx="2"/>
            <a:endCxn id="213" idx="0"/>
          </p:cNvCxnSpPr>
          <p:nvPr/>
        </p:nvCxnSpPr>
        <p:spPr>
          <a:xfrm>
            <a:off x="4381200" y="4952880"/>
            <a:ext cx="1080" cy="5342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1358-A265-4643-88C9-6EC9A060CE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3449-FA4D-46C0-A179-49EC9F83C3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3:02:57Z</dcterms:created>
  <dc:creator>罗腊咏</dc:creator>
  <dc:description/>
  <dc:language>en-US</dc:language>
  <cp:lastModifiedBy>Alex Afanasyev</cp:lastModifiedBy>
  <dcterms:modified xsi:type="dcterms:W3CDTF">2014-10-17T20:03:15Z</dcterms:modified>
  <cp:revision>1586</cp:revision>
  <dc:subject/>
  <dc:title> Towards TCAM-based scalable virtual routers</dc:title>
</cp:coreProperties>
</file>